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A67-B9C5-4045-91FF-3EF57CBD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961-CE47-4D2A-B031-66017552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40D-5F9C-4CC3-ABB1-7971A9A9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31B-A34C-4FD7-AF4F-C6CA18A2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5FA-5018-41B1-A9A6-C71821D1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E56-A5C8-4B43-9552-D1D67890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069-8B5F-49AF-94C4-85A35F88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511-B3D1-4131-8920-4597A296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02F-0013-47DE-964A-934162FD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9CF-E501-4B44-8F19-178EAE00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63A-06D7-495C-BEA4-9744F214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2E8-C468-4C53-9DF5-1005E611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2C65-142E-4213-AEC5-A29668B5B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76520" y="317520"/>
            <a:ext cx="5486400" cy="5613480"/>
            <a:chOff x="1676520" y="317520"/>
            <a:chExt cx="5486400" cy="5613480"/>
          </a:xfrm>
        </p:grpSpPr>
        <p:sp>
          <p:nvSpPr>
            <p:cNvPr id="42" name=""/>
            <p:cNvSpPr/>
            <p:nvPr/>
          </p:nvSpPr>
          <p:spPr>
            <a:xfrm>
              <a:off x="1676520" y="1003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BJECTIF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19520" y="1003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'assurer que 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réglementation est respectée (affichage de la tarificatio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e plan d'affichage défini est mis en oeuv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P.L.V. est actualis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6520" y="1984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TURE DES RIS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1984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-respect de la réglemen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usion d'une information périmée ou erron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Affichage incohérent par rapport aux actions commerciales en co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297180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PPORTS DE CONTR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297180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 Affiches Conditions Géné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ffiches et P.L.V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 Communiqués Publicité du développ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6520" y="3952800"/>
              <a:ext cx="11430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OLES POSSIBLES A EFFECTU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3952800"/>
              <a:ext cx="43434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ôler la présence dans les locaux accessibles au public de l'affiche Conditions Générales (avec tarifs à jou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Veiller à la présence des moyens nécessaires à l'affichage et à la P.L.V. (porte-affiches, présentoirs ...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S'assurer que les affiches et la P.L.V. sont conformes au plan d'affich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ériodicité : contrôle semestri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6520" y="317520"/>
              <a:ext cx="1143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THO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9520" y="317520"/>
              <a:ext cx="43434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01640" y="6084720"/>
            <a:ext cx="58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dispositif de contrôle – Information clientèle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" y="-10335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7311960"/>
            <a:ext cx="9144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28800" y="457200"/>
            <a:ext cx="5847840" cy="5359320"/>
            <a:chOff x="1828800" y="457200"/>
            <a:chExt cx="5847840" cy="5359320"/>
          </a:xfrm>
        </p:grpSpPr>
        <p:sp>
          <p:nvSpPr>
            <p:cNvPr id="56" name=""/>
            <p:cNvSpPr/>
            <p:nvPr/>
          </p:nvSpPr>
          <p:spPr>
            <a:xfrm>
              <a:off x="1828800" y="826920"/>
              <a:ext cx="5847840" cy="431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NATURE ET ETENDUE DES CONT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Natur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le porte sur les différents contrôles possibles à effectuer. Elle dépend de " l'analyse générale et préalable du risque " qu'aura effectuée le Manager, en liaison notamment avec son Responsable Hiérarchique. Les contrôles à effectuer seront d'autant plus variés et précis que le risque apparaîtra important et plus ciblé. Les facteurs aggravants de risque sont divers : événements nouveaux (nouvelle procédure , nouvel environnement ...), " indicateurs d'alerte " (augmentation des débiteurs &gt; 30 jours ...), mission d'inspection ayant révélé des dysfonctionnements, connaissance propre du Directeur d'agence sur des zones à risque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Etendu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s'agit de l'importance plus ou moins grande de l'échantillon de contrôl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NOMALIES CONSTATE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MESURES CORRECTR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convient de rappeler l'importance des actions correctrices et la nécessité d'un suivi de qualité desdites actions (rappels de procédures, formations internes, mise en oeuvre d'outils de suivi ...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21960" y="457200"/>
              <a:ext cx="4054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HEM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Noter dans cette rubrique les intitulés des fiches métho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457200"/>
              <a:ext cx="1793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DE CONTRO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5130720"/>
              <a:ext cx="1871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00080" y="5130720"/>
              <a:ext cx="1949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49480" y="5130720"/>
              <a:ext cx="20271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hiérarch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5359320"/>
              <a:ext cx="1871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00080" y="5359320"/>
              <a:ext cx="1949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49480" y="5359320"/>
              <a:ext cx="2027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14560" y="594360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2000" y="6039000"/>
            <a:ext cx="3997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27000" y="512640"/>
            <a:ext cx="7335720" cy="5391000"/>
            <a:chOff x="927000" y="512640"/>
            <a:chExt cx="7335720" cy="5391000"/>
          </a:xfrm>
        </p:grpSpPr>
        <p:sp>
          <p:nvSpPr>
            <p:cNvPr id="68" name=""/>
            <p:cNvSpPr/>
            <p:nvPr/>
          </p:nvSpPr>
          <p:spPr>
            <a:xfrm>
              <a:off x="2247120" y="911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cédures et publications internes, archiv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47120" y="11116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47120" y="1311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gistre de serv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47120" y="1510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itement du courrier, NPAI, domicilié à l’agence, réclama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47120" y="17107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Équipements et consignes de 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47120" y="1910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nsibilisation du perso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47120" y="2109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fidentialité informati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47120" y="23097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isse fran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7120" y="2509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A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47120" y="27090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vi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47120" y="29088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de voy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47120" y="31082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ons d’éparg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47120" y="33080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équiers de ban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7120" y="35078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47120" y="37072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apturé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47120" y="39070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vierg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47120" y="4106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dépô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47120" y="43063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aller compensation retournés impay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47120" y="4506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uvertures de comptes-chè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7120" y="4705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êts à la consomm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7120" y="49053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t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47120" y="5105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anomali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47120" y="5304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 des dispositions anti-blanchi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47120" y="55044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posi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7120" y="5704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ffr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7120" y="512640"/>
              <a:ext cx="4695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hèmes de contrô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270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ubri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27000" y="911880"/>
              <a:ext cx="1320120" cy="79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27000" y="171072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7000" y="230976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27000" y="2908800"/>
              <a:ext cx="1320120" cy="159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ale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27000" y="450612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lientèle de particuli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7000" y="4905360"/>
              <a:ext cx="1320120" cy="99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ctivités communes à différents march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426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s des contrô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42600" y="911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42600" y="11116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42600" y="1311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2600" y="1510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42600" y="17107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42600" y="1910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42600" y="2109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42600" y="23097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2600" y="2509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42600" y="27090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42600" y="29088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2600" y="31082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2600" y="33080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2600" y="35078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42600" y="37072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42600" y="39070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42600" y="4106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2600" y="43063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42600" y="4506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2600" y="4705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42600" y="49053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42600" y="5105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42600" y="5304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42600" y="55044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2600" y="5704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5:14Z</dcterms:modified>
  <cp:revision>79</cp:revision>
  <dc:subject/>
  <dc:title>Présentation PowerPoint</dc:title>
</cp:coreProperties>
</file>